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64AD-2320-420D-8CE8-5E09F3E60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FCDF-8670-421F-9F76-277F4453C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AE34-19BF-4AED-945B-58A987B2D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16B5-8054-4D41-8CB7-87CD23A5B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7CEF-6870-45EB-BA3B-7CD45D262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9E44-D99A-40A1-8F2E-DFE11F05D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D744-0D03-4BC6-B113-CE83E95F6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3B2F-57D5-4CD0-A451-381D21697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C238-E5E5-4AAC-8AB5-F5768FCAF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AB90-ADBB-4C72-9768-7528E1D19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3662-E821-4769-982E-D29317531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6DD2-B7B4-4ACB-A3E1-90E80A6CF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820F64-9267-45D8-A201-5D30F227493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1T09:27:08Z</dcterms:modified>
  <cp:revision>91</cp:revision>
  <dc:subject/>
  <dc:title>No Slide Title</dc:title>
</cp:coreProperties>
</file>